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AE36-D774-4626-9E7C-37C85492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A95C-9EB5-4C0A-8437-7E02E30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2B3D-B51C-49D7-9458-6DB58650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9B6F-B20C-4AF3-8C8D-9DFE9899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D96-70F6-4882-8752-C123A84E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AAE3-CC2A-45E0-90D4-C7F9A314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F357-9CCD-461D-B9DA-411D2597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559-B665-4975-9C05-DF88700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268B-5475-43C6-8943-DCABCEF0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1613-774B-47B4-A892-A41AD941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E189-A9FB-40C7-B70E-8ADA48A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3BDC-781D-4814-B926-6448ADA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A0C2-970A-4BE6-B1AA-1D74262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9D10-766D-427B-80AA-8C8F077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F67-1813-4438-9147-F52AB0B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FD0-5031-492E-B090-E9413EFD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6A1-8692-4F33-8DFE-A0D3D7D9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638F-EEE9-49AB-81E2-B1A54A5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46E6-BCC0-4CCD-BB03-BAB6E68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8E43-1090-4622-9748-1FD6310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BB6A-CF28-4A30-B130-70D2C1DB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42BC-D611-4B9B-B43E-91BC544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BCFC-2141-4348-AADE-EBA0461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1149-A298-4C0D-A301-7BD4D87B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90F9-6016-4588-A25B-47CFEE084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8FB0-4808-400E-A63B-D9AB8BB46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5e5ff"/>
                </a:solidFill>
                <a:latin typeface="Castellar"/>
              </a:rPr>
              <a:t>Vygotskij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oria culturale e cogniti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1"/>
          <p:cNvPicPr/>
          <p:nvPr/>
        </p:nvPicPr>
        <p:blipFill>
          <a:blip r:embed="rId1"/>
          <a:stretch/>
        </p:blipFill>
        <p:spPr>
          <a:xfrm>
            <a:off x="3203640" y="3357720"/>
            <a:ext cx="2662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8"/>
          <p:cNvGrpSpPr/>
          <p:nvPr/>
        </p:nvGrpSpPr>
        <p:grpSpPr>
          <a:xfrm>
            <a:off x="442800" y="836640"/>
            <a:ext cx="8305200" cy="5614920"/>
            <a:chOff x="442800" y="836640"/>
            <a:chExt cx="8305200" cy="5614920"/>
          </a:xfrm>
        </p:grpSpPr>
        <p:cxnSp>
          <p:nvCxnSpPr>
            <p:cNvPr id="104" name="_s1028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487120" y="2189880"/>
              <a:ext cx="1123200" cy="29073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29"/>
            <p:cNvCxnSpPr>
              <a:stCxn id="108" idx="0"/>
              <a:endCxn id="106" idx="2"/>
            </p:cNvCxnSpPr>
            <p:nvPr/>
          </p:nvCxnSpPr>
          <p:spPr>
            <a:xfrm flipV="1">
              <a:off x="4595040" y="3082320"/>
              <a:ext cx="3960" cy="112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30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580120" y="2190240"/>
              <a:ext cx="1123200" cy="2907360"/>
            </a:xfrm>
            <a:prstGeom prst="bentConnector3">
              <a:avLst>
                <a:gd name="adj1" fmla="val 1279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031"/>
            <p:cNvSpPr/>
            <p:nvPr/>
          </p:nvSpPr>
          <p:spPr>
            <a:xfrm>
              <a:off x="3349440" y="83664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3 temi principali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4280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Importanza cultura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334944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Ruolo del linguaggio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>
              <a:off x="6256440" y="4205520"/>
              <a:ext cx="2491560" cy="22460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zona crescita  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100" spc="-1" strike="noStrike">
                  <a:solidFill>
                    <a:srgbClr val="ffffff"/>
                  </a:solidFill>
                  <a:latin typeface="Arial"/>
                </a:rPr>
                <a:t>Prossimale”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l ruolo del linguagg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de possibile il pensiero e regola il comportamen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È alla base della cultura umana e della coscien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ette l’interazione soci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tadi nello sviluppo delle funzioni del linguaggi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sociale:          (fino ai 3 ann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egocentrico:    (dai 3 ai 7 ann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guaggio sociale:(dai 7 anni in po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soci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sserv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 comportamento degli alt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prime pensieri ed emozioni sempl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Lo-sviluppo-fisico-del-bambino"/>
          <p:cNvPicPr/>
          <p:nvPr/>
        </p:nvPicPr>
        <p:blipFill>
          <a:blip r:embed="rId1"/>
          <a:stretch/>
        </p:blipFill>
        <p:spPr>
          <a:xfrm>
            <a:off x="4284720" y="3213000"/>
            <a:ext cx="464508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egocentric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prime il suo pensiero a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ta voc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 comprendere le proprie intenzio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shutterstock_14359180"/>
          <p:cNvPicPr/>
          <p:nvPr/>
        </p:nvPicPr>
        <p:blipFill>
          <a:blip r:embed="rId1"/>
          <a:stretch/>
        </p:blipFill>
        <p:spPr>
          <a:xfrm>
            <a:off x="755640" y="1700280"/>
            <a:ext cx="3240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guaggio soci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lan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terior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izza il proprio pensiero e comport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200912031108520"/>
          <p:cNvPicPr/>
          <p:nvPr/>
        </p:nvPicPr>
        <p:blipFill>
          <a:blip r:embed="rId1"/>
          <a:stretch/>
        </p:blipFill>
        <p:spPr>
          <a:xfrm>
            <a:off x="3851280" y="3284640"/>
            <a:ext cx="48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7:56:41Z</dcterms:created>
  <dc:creator>Utente</dc:creator>
  <dc:description/>
  <dc:language>en-US</dc:language>
  <cp:lastModifiedBy>Laura Polenta</cp:lastModifiedBy>
  <dcterms:modified xsi:type="dcterms:W3CDTF">2012-05-02T07:28:09Z</dcterms:modified>
  <cp:revision>12</cp:revision>
  <dc:subject/>
  <dc:title>Vygotskij</dc:title>
</cp:coreProperties>
</file>